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E3AF-6F29-47F3-A5D2-8271183B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8768-17E3-416D-A938-C116749F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AC2-1ECC-47CF-A6C2-003701C9F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64C-B90C-4C57-8262-95E36B2A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BB5-59A5-4187-AD00-032B16BB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7E5-3A65-49D6-8CD7-1EC02280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804A-7D12-4B4C-BD8B-16B06CBE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C26C-A15E-45A9-A3FE-B09D5D683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C8E-B54C-4061-99BB-E79F8E21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DF2-C406-424C-BBC3-974AFF0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20C-9C81-433C-87DC-CF133E99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A34-CF9E-44E7-8FF6-E47A8043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7F3-9D3A-4BB3-B93E-252F80C8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820-896F-454C-B34B-55A687CE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4AA-4F21-4C18-89EF-AC16F385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9F5-F941-4C40-8AF3-AE427BA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771-C131-4932-BCE4-7147E3F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DFD-93E3-4F2F-BF44-F2331522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5A1-02A3-4021-9B92-68BF535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55D-98A5-4802-80A7-0E32664E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52A-EC5F-401C-8823-4A90370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A0B-AFE7-4DB0-B9D2-27DF76BF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lmooreketresources.wikispac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ket.org/artstoolkit/" TargetMode="External"/><Relationship Id="rId3" Type="http://schemas.openxmlformats.org/officeDocument/2006/relationships/hyperlink" Target="http://www.ket.org/artstoolki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ket.org/lincol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228600" y="492444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957"/>
                </a:solidFill>
                <a:latin typeface="Arial"/>
              </a:rPr>
              <a:t>Social Studies Resources at Your Fingertips Through KET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17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165240" y="2133720"/>
            <a:ext cx="86738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ale City: The Road to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5334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57200" y="6248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WW.SCALECITY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Action Button: Custom 7"/>
          <p:cNvSpPr/>
          <p:nvPr/>
        </p:nvSpPr>
        <p:spPr>
          <a:xfrm>
            <a:off x="1905120" y="6248520"/>
            <a:ext cx="5181480" cy="609480"/>
          </a:xfrm>
          <a:custGeom>
            <a:avLst/>
            <a:gdLst>
              <a:gd name="textAreaLeft" fmla="*/ 39240 w 5181480"/>
              <a:gd name="textAreaRight" fmla="*/ 5142240 w 5181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3536" h="21600">
                <a:moveTo>
                  <a:pt x="0" y="0"/>
                </a:moveTo>
                <a:lnTo>
                  <a:pt x="183536" y="0"/>
                </a:lnTo>
                <a:lnTo>
                  <a:pt x="183536" y="21600"/>
                </a:lnTo>
                <a:lnTo>
                  <a:pt x="0" y="21600"/>
                </a:lnTo>
                <a:close/>
              </a:path>
              <a:path fill="lightenLess" w="183536" h="21600">
                <a:moveTo>
                  <a:pt x="0" y="0"/>
                </a:moveTo>
                <a:lnTo>
                  <a:pt x="183536" y="0"/>
                </a:lnTo>
                <a:lnTo>
                  <a:pt x="182136" y="1400"/>
                </a:lnTo>
                <a:lnTo>
                  <a:pt x="1400" y="1400"/>
                </a:lnTo>
                <a:close/>
              </a:path>
              <a:path fill="darken" w="183536" h="21600">
                <a:moveTo>
                  <a:pt x="183536" y="0"/>
                </a:moveTo>
                <a:lnTo>
                  <a:pt x="183536" y="21600"/>
                </a:lnTo>
                <a:lnTo>
                  <a:pt x="182136" y="20200"/>
                </a:lnTo>
                <a:lnTo>
                  <a:pt x="182136" y="1400"/>
                </a:lnTo>
                <a:close/>
              </a:path>
              <a:path fill="darkenLess" w="183536" h="21600">
                <a:moveTo>
                  <a:pt x="183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136" y="20200"/>
                </a:lnTo>
                <a:close/>
              </a:path>
              <a:path fill="lighten" w="183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228600" y="274320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ver 5000 videos- 50,000 video segments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Introduced in 2009-10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face with web too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room set-up and enhanced studen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743200" y="2449440"/>
            <a:ext cx="327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ntucky’s National Parks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495432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492300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28600" y="40971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y Preserve Parks?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are your story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y Fu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tch video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257800" y="9907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te park video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learning objects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assroom material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ages and video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s today ar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09480" y="1066680"/>
            <a:ext cx="7391520" cy="88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Teresa Day</a:t>
            </a:r>
            <a:br>
              <a:rPr sz="2400"/>
            </a:b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KET Arts and Special Projects Manager </a:t>
            </a:r>
            <a:br>
              <a:rPr sz="2400"/>
            </a:b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Voice Mail: (800)432-0951 ext. 7294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E-Mail: tday@ket.org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Larry Moore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KET Education Consultant,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North Central Region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Regional Office # (502) 875-9002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Voice Mail: (800) 432-0951, ext. 7264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E-Mail: lmoore@ket.org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1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685800" y="571500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ry’s Wiki Address: http://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6">
            <a:hlinkClick r:id="rId2"/>
          </p:cNvPr>
          <p:cNvSpPr/>
          <p:nvPr/>
        </p:nvSpPr>
        <p:spPr>
          <a:xfrm>
            <a:off x="685800" y="5715000"/>
            <a:ext cx="5791320" cy="762120"/>
          </a:xfrm>
          <a:custGeom>
            <a:avLst/>
            <a:gdLst>
              <a:gd name="textAreaLeft" fmla="*/ 49320 w 5791320"/>
              <a:gd name="textAreaRight" fmla="*/ 5742000 w 5791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T Arts Toolk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>
            <a:hlinkClick r:id="rId2"/>
          </p:cNvPr>
          <p:cNvSpPr/>
          <p:nvPr/>
        </p:nvSpPr>
        <p:spPr>
          <a:xfrm>
            <a:off x="2133720" y="601992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0" name="Action Button: Custom 7">
            <a:hlinkClick r:id="rId3"/>
          </p:cNvPr>
          <p:cNvSpPr/>
          <p:nvPr/>
        </p:nvSpPr>
        <p:spPr>
          <a:xfrm>
            <a:off x="2133720" y="6019920"/>
            <a:ext cx="5029200" cy="457200"/>
          </a:xfrm>
          <a:custGeom>
            <a:avLst/>
            <a:gdLst>
              <a:gd name="textAreaLeft" fmla="*/ 29520 w 5029200"/>
              <a:gd name="textAreaRight" fmla="*/ 4999680 w 5029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7430" h="21600">
                <a:moveTo>
                  <a:pt x="0" y="0"/>
                </a:moveTo>
                <a:lnTo>
                  <a:pt x="237430" y="0"/>
                </a:lnTo>
                <a:lnTo>
                  <a:pt x="237430" y="21600"/>
                </a:lnTo>
                <a:lnTo>
                  <a:pt x="0" y="21600"/>
                </a:lnTo>
                <a:close/>
              </a:path>
              <a:path fill="lightenLess" w="237430" h="21600">
                <a:moveTo>
                  <a:pt x="0" y="0"/>
                </a:moveTo>
                <a:lnTo>
                  <a:pt x="237430" y="0"/>
                </a:lnTo>
                <a:lnTo>
                  <a:pt x="236030" y="1400"/>
                </a:lnTo>
                <a:lnTo>
                  <a:pt x="1400" y="1400"/>
                </a:lnTo>
                <a:close/>
              </a:path>
              <a:path fill="darken" w="237430" h="21600">
                <a:moveTo>
                  <a:pt x="237430" y="0"/>
                </a:moveTo>
                <a:lnTo>
                  <a:pt x="237430" y="21600"/>
                </a:lnTo>
                <a:lnTo>
                  <a:pt x="236030" y="20200"/>
                </a:lnTo>
                <a:lnTo>
                  <a:pt x="236030" y="1400"/>
                </a:lnTo>
                <a:close/>
              </a:path>
              <a:path fill="darkenLess" w="237430" h="21600">
                <a:moveTo>
                  <a:pt x="237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30" y="20200"/>
                </a:lnTo>
                <a:close/>
              </a:path>
              <a:path fill="lighten" w="237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thos Pro Regular"/>
              </a:rPr>
              <a:t>The Fan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Larry.Moore\Local Settings\Temporary Internet Files\Content.IE5\EXBQZ8G4\MCj04125160000[1].wmf"/>
          <p:cNvPicPr/>
          <p:nvPr/>
        </p:nvPicPr>
        <p:blipFill>
          <a:blip r:embed="rId1"/>
          <a:stretch/>
        </p:blipFill>
        <p:spPr>
          <a:xfrm>
            <a:off x="5715000" y="2590920"/>
            <a:ext cx="310356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Larry.Moore\Local Settings\Temporary Internet Files\Content.IE5\A26V54AA\MPj04307480000[1].jpg"/>
          <p:cNvPicPr/>
          <p:nvPr/>
        </p:nvPicPr>
        <p:blipFill>
          <a:blip r:embed="rId2"/>
          <a:stretch/>
        </p:blipFill>
        <p:spPr>
          <a:xfrm>
            <a:off x="685800" y="1371600"/>
            <a:ext cx="4761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3429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he Newest Addition to the Toolk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he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e Sa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ic Sa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ld of Dance and Music 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: The Kentucky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" descr="Lincoln.jpg"/>
          <p:cNvPicPr/>
          <p:nvPr/>
        </p:nvPicPr>
        <p:blipFill>
          <a:blip r:embed="rId1"/>
          <a:stretch/>
        </p:blipFill>
        <p:spPr>
          <a:xfrm>
            <a:off x="0" y="990720"/>
            <a:ext cx="7391520" cy="5083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219320" y="60958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ket.org/lincoln/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391520" y="990720"/>
            <a:ext cx="1752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6" descr="lincoln-cartoon.gif"/>
          <p:cNvPicPr/>
          <p:nvPr/>
        </p:nvPicPr>
        <p:blipFill>
          <a:blip r:embed="rId2"/>
          <a:stretch/>
        </p:blipFill>
        <p:spPr>
          <a:xfrm>
            <a:off x="7543800" y="1447920"/>
            <a:ext cx="1565280" cy="2057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754380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Be sure and play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Abe Across Ky. Game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Action Button: Custom 8">
            <a:hlinkClick r:id="rId3"/>
          </p:cNvPr>
          <p:cNvSpPr/>
          <p:nvPr/>
        </p:nvSpPr>
        <p:spPr>
          <a:xfrm>
            <a:off x="1219320" y="6095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86200" y="19807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914400" y="5892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/bell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04920" y="76320"/>
            <a:ext cx="845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askerville Old Face"/>
              </a:rPr>
              <a:t>Our Newest Electronic Field Trip!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Stou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393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8763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lle of Louisville (October 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 Harrod and Fort Boones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ation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 Hom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ryville Battl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s of the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oth 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280"/>
            <a:ext cx="7696440" cy="179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6320" y="19810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onic Field Trips with Social Studies Them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143000" y="6319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Action Button: Custom 10">
            <a:hlinkClick r:id="rId3"/>
          </p:cNvPr>
          <p:cNvSpPr/>
          <p:nvPr/>
        </p:nvSpPr>
        <p:spPr>
          <a:xfrm>
            <a:off x="2743200" y="6324480"/>
            <a:ext cx="3733920" cy="457200"/>
          </a:xfrm>
          <a:custGeom>
            <a:avLst/>
            <a:gdLst>
              <a:gd name="textAreaLeft" fmla="*/ 29520 w 3733920"/>
              <a:gd name="textAreaRight" fmla="*/ 3704400 w 3733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76284" h="21600">
                <a:moveTo>
                  <a:pt x="0" y="0"/>
                </a:moveTo>
                <a:lnTo>
                  <a:pt x="176284" y="0"/>
                </a:lnTo>
                <a:lnTo>
                  <a:pt x="176284" y="21600"/>
                </a:lnTo>
                <a:lnTo>
                  <a:pt x="0" y="21600"/>
                </a:lnTo>
                <a:close/>
              </a:path>
              <a:path fill="lightenLess" w="176284" h="21600">
                <a:moveTo>
                  <a:pt x="0" y="0"/>
                </a:moveTo>
                <a:lnTo>
                  <a:pt x="176284" y="0"/>
                </a:lnTo>
                <a:lnTo>
                  <a:pt x="174884" y="1400"/>
                </a:lnTo>
                <a:lnTo>
                  <a:pt x="1400" y="1400"/>
                </a:lnTo>
                <a:close/>
              </a:path>
              <a:path fill="darken" w="176284" h="21600">
                <a:moveTo>
                  <a:pt x="176284" y="0"/>
                </a:moveTo>
                <a:lnTo>
                  <a:pt x="176284" y="21600"/>
                </a:lnTo>
                <a:lnTo>
                  <a:pt x="174884" y="20200"/>
                </a:lnTo>
                <a:lnTo>
                  <a:pt x="174884" y="1400"/>
                </a:lnTo>
                <a:close/>
              </a:path>
              <a:path fill="darkenLess" w="176284" h="21600">
                <a:moveTo>
                  <a:pt x="176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4884" y="20200"/>
                </a:lnTo>
                <a:close/>
              </a:path>
              <a:path fill="lighten" w="176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28600" y="115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T’s New Quiz : Now in it’s 25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Year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Action Button: Custom 8"/>
          <p:cNvSpPr/>
          <p:nvPr/>
        </p:nvSpPr>
        <p:spPr>
          <a:xfrm>
            <a:off x="152280" y="990720"/>
            <a:ext cx="2057400" cy="1295280"/>
          </a:xfrm>
          <a:custGeom>
            <a:avLst/>
            <a:gdLst>
              <a:gd name="textAreaLeft" fmla="*/ 83880 w 2057400"/>
              <a:gd name="textAreaRight" fmla="*/ 1973520 w 20574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4306" h="21600">
                <a:moveTo>
                  <a:pt x="0" y="0"/>
                </a:moveTo>
                <a:lnTo>
                  <a:pt x="34306" y="0"/>
                </a:lnTo>
                <a:lnTo>
                  <a:pt x="34306" y="21600"/>
                </a:lnTo>
                <a:lnTo>
                  <a:pt x="0" y="21600"/>
                </a:lnTo>
                <a:close/>
              </a:path>
              <a:path fill="lightenLess" w="34306" h="21600">
                <a:moveTo>
                  <a:pt x="0" y="0"/>
                </a:moveTo>
                <a:lnTo>
                  <a:pt x="34306" y="0"/>
                </a:lnTo>
                <a:lnTo>
                  <a:pt x="32906" y="1400"/>
                </a:lnTo>
                <a:lnTo>
                  <a:pt x="1400" y="1400"/>
                </a:lnTo>
                <a:close/>
              </a:path>
              <a:path fill="darken" w="34306" h="21600">
                <a:moveTo>
                  <a:pt x="34306" y="0"/>
                </a:moveTo>
                <a:lnTo>
                  <a:pt x="34306" y="21600"/>
                </a:lnTo>
                <a:lnTo>
                  <a:pt x="32906" y="20200"/>
                </a:lnTo>
                <a:lnTo>
                  <a:pt x="32906" y="1400"/>
                </a:lnTo>
                <a:close/>
              </a:path>
              <a:path fill="darkenLess" w="34306" h="21600">
                <a:moveTo>
                  <a:pt x="34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6" y="20200"/>
                </a:lnTo>
                <a:close/>
              </a:path>
              <a:path fill="lighten" w="34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76520" y="6135840"/>
            <a:ext cx="61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ttp://www.ket.org/education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09-09-22T16:45:18Z</dcterms:modified>
  <cp:revision>257</cp:revision>
  <dc:subject/>
  <dc:title>Slide 1</dc:title>
</cp:coreProperties>
</file>